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CEFA6-5F97-4D01-ACE1-A33DB9E4B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7E265-2BDB-4159-9083-E2FE7C8FA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6DEE6-9A96-4915-BDFD-50F122C44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54C35-48F3-4D91-A862-E19229693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21033-C679-4356-8AE8-6548FC390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45B5C-DE85-44F7-9392-511D93865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9D6E1-8A21-41D0-9CA8-B095B4942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7A88A-39F9-4E45-A6A1-1EF901EFD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42489-6A6D-4B62-9836-E7AAE6E26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97A5E-B72B-452D-820E-1C468BA20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FB076-6197-41D1-8F8E-B0B40A08E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4DF97-F2B6-4A5E-8EF7-38C6C07A5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BBBE1-D92C-4E2D-A5C3-BEEC253408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533520" y="457200"/>
            <a:ext cx="861048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16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Specific Heat Capacity Lab</a:t>
            </a:r>
            <a:endParaRPr b="0" lang="en-US" sz="1800" spc="1" strike="noStrike">
              <a:ln w="316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3962520" y="4800600"/>
            <a:ext cx="4948200" cy="1409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By: Team 8 Blue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9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152280" y="1523880"/>
            <a:ext cx="87631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THE END!!!!!=]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2000"/>
                            </p:stCondLst>
                            <p:childTnLst>
                              <p:par>
                                <p:cTn id="3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1.11111E-006 C 0.00365 -0.01389 0.00209 -0.01921 0.004 -0.03704 C 0.00522 -0.04815 0.01216 -0.06065 0.01581 -0.07037 C 0.02154 -0.08565 0.02275 -0.11273 0.0264 -0.12986 C 0.02744 -0.1588 0.03004 -0.1831 0.0356 -0.21065 C 0.04133 -0.2081 0.04306 -0.20162 0.04619 -0.19491 C 0.05261 -0.18102 0.05608 -0.16528 0.06199 -0.15093 C 0.0639 -0.14606 0.06633 -0.14167 0.06841 -0.13704 C 0.07032 -0.13241 0.07379 -0.12292 0.07379 -0.12292 C 0.07518 -0.11528 0.07692 -0.10995 0.08039 -0.1037 C 0.08195 -0.09468 0.08664 -0.08125 0.08959 -0.07384 C 0.10122 -0.04491 0.08577 -0.09375 0.09619 -0.06157 C 0.09949 -0.05139 0.10418 -0.04329 0.10799 -0.03333 C 0.11494 -0.01528 0.10626 -0.02037 0.1224 0.00856 C 0.12918 0.02083 0.13473 0.03796 0.1382 0.05255 C 0.14445 0.0787 0.15001 0.10509 0.15539 0.13148 C 0.15626 0.13565 0.15799 0.14375 0.15799 0.14375 C 0.16164 0.18056 0.16876 0.21852 0.1764 0.25417 C 0.17848 0.2794 0.18595 0.30185 0.19081 0.32616 C 0.19515 0.34792 0.19098 0.33542 0.19619 0.34884 C 0.19862 0.36921 0.19532 0.35509 0.19081 0.34699 C 0.18768 0.3338 0.17553 0.32176 0.16841 0.31227 C 0.14619 0.28218 0.11772 0.25903 0.09081 0.23681 C 0.08369 0.23079 0.08161 0.22454 0.07501 0.21736 C 0.06772 0.20949 0.06025 0.20208 0.05261 0.19468 C 0.03716 0.17986 0.04306 0.19074 0.02501 0.16667 C 0.01737 0.15648 -0.00833 0.12176 -0.01441 0.11574 C -0.02743 0.10278 -0.04028 0.08796 -0.05122 0.07176 C -0.07083 0.04282 -0.09063 0.01389 -0.1092 -0.01597 C -0.11563 -0.02639 -0.12969 -0.0544 -0.1408 -0.06157 C -0.14306 -0.06458 -0.14636 -0.06644 -0.1474 -0.07037 C -0.14792 -0.07222 -0.14479 -0.07176 -0.1434 -0.07199 C -0.12899 -0.07361 -0.1 -0.07546 -0.1 -0.07546 C -0.08021 -0.07847 -0.06059 -0.08009 -0.0408 -0.08264 C 0.0349 -0.10532 0.11702 -0.10208 0.19341 -0.1037 C 0.20539 -0.10486 0.21581 -0.10718 0.22761 -0.1088 C 0.24358 -0.11435 0.2599 -0.1169 0.2764 -0.11944 C 0.27987 -0.11875 0.2856 -0.12199 0.28699 -0.11759 C 0.2882 -0.11366 0.28161 -0.11296 0.279 -0.11065 C 0.26737 -0.10046 0.25365 -0.08819 0.24341 -0.07546 C 0.23352 -0.06319 0.24602 -0.07269 0.23421 -0.06505 C 0.23299 -0.06319 0.23178 -0.06134 0.23039 -0.05972 C 0.22918 -0.05833 0.22744 -0.05764 0.2264 -0.05625 C 0.21824 -0.04537 0.21095 -0.02986 0.2014 -0.02106 C 0.19706 -0.00926 0.18681 0.000229999999999999 0.18039 0.01042 C 0.17483 0.01944 0.17032 0.0287 0.16581 0.03843 C 0.16459 0.04097 0.16338 0.04329 0.16199 0.0456 C 0.16077 0.04745 0.15904 0.04861 0.15799 0.05069 C 0.15105 0.06458 0.14688 0.07963 0.1382 0.0912 C 0.13543 0.10046 0.13195 0.1044 0.12761 0.11227 C 0.12501 0.12338 0.12848 0.11111 0.1224 0.12269 C 0.11824 0.13056 0.11633 0.1412 0.1106 0.14722 C 0.10886 0.14907 0.10695 0.15046 0.10539 0.15255 C 0.10331 0.15532 0.10157 0.1581 0.10001 0.16134 C 0.09897 0.16343 0.09862 0.1662 0.0974 0.16829 C 0.09602 0.1706 0.09376 0.17153 0.0922 0.17361 C 0.07588 0.19375 0.08595 0.18449 0.0764 0.19282 C 0.07501 0.19514 0.07414 0.19815 0.0724 0.2 C 0.07136 0.20116 0.06945 0.20046 0.06841 0.20162 C 0.05452 0.2169 0.07483 0.20162 0.05921 0.21227 C 0.05192 0.22431 0.04237 0.23102 0.03421 0.2419 C 0.03161 0.24537 0.03022 0.25046 0.02761 0.25417 C 0.02449 0.2588 0.00747 0.28449 0.00261 0.28935 C -0.0099 0.31366 -0.02431 0.34329 -0.03802 0.36481 C -0.04271 0.37222 -0.04809 0.37847 -0.05261 0.38588 C -0.05695 0.39306 -0.06146 0.40023 -0.06441 0.40856 C -0.06528 0.41088 -0.0658 0.41366 -0.06702 0.41551 C -0.07014 0.42106 -0.07431 0.42593 -0.07761 0.43148 C -0.08056 0.41481 -0.06545 0.39676 -0.06042 0.38218 C -0.05486 0.3662 -0.04983 0.34977 -0.04462 0.33333 C -0.04306 0.32847 -0.03976 0.32546 -0.03802 0.32083 C -0.03333 0.3081 -0.02952 0.2956 -0.02622 0.28218 C -0.01493 0.23704 -0.02396 0.25995 -0.01302 0.23495 C -0.00729 0.20787 -0.00191 0.18125 0.004 0.15417 C 0.00661 0.14236 0.01043 0.12801 0.0106 0.11574 C 0.01112 0.0625 0.0106 0.00926 0.0106 -0.04398 E">
                                      <p:cBhvr>
                                        <p:cTn id="40" dur="2000" fill="hold"/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1T13:42:33Z</dcterms:created>
  <dc:creator>default</dc:creator>
  <dc:description/>
  <dc:language>en-US</dc:language>
  <cp:lastModifiedBy>default</cp:lastModifiedBy>
  <dcterms:modified xsi:type="dcterms:W3CDTF">2008-01-11T15:49:58Z</dcterms:modified>
  <cp:revision>2</cp:revision>
  <dc:subject/>
  <dc:title>Slide 1</dc:title>
</cp:coreProperties>
</file>